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AE3-85AA-4740-82BF-1743DE70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942-9F6C-41CE-8AE3-F71AAAD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2F7-69CD-4AAD-B81C-17AF03CF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1E4-F539-4B20-8615-B3F7B14B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CD3-8A84-4B4A-8DE5-C45C84BE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052-6245-4DA0-9602-7966B5B6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23F-64D6-4A03-8387-48FCAF58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FB6-D7D1-497A-A30C-C0E6C403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877-EFEA-410F-887B-0D5F4548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A04-55B4-461C-B09D-6B4FE41E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55D-F2A2-41E5-84DD-8A477EE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779-F961-4BE0-A61C-CFE929F8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D3CB-06EB-4053-B322-E2AFFABE9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es/imgres?imgurl=http://www.daymontsl.com/images/joyeria.gif&amp;imgrefurl=http://www.daymontsl.com/joyeria.htm&amp;h=233&amp;w=267&amp;sz=11&amp;tbnid=j_59orUZ8Um1DM:&amp;tbnh=94&amp;tbnw=108&amp;hl=es&amp;start=1&amp;prev=/images%3Fq%3Djoyeria%26svnum%3D10%26hl%3Des%26lr%3D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learn 11 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translate a description of what the shop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play Who Wants to b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D2F-DDE1-470D-B068-0935242C9159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048360" cy="3745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tienda de rega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caramelos, llaveros, ositos de pel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C9F-A63A-482F-8B89-0C61D34A92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6867720" cy="374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libr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ibros, diccionarios, guías túri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76C-AD0E-4E99-BBF4-A5569B58B2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058160" cy="345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randes almac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ropa, electrónicos, co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F02-CFA2-429E-8C65-BC79281410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476280"/>
            <a:ext cx="8713800" cy="189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una fruter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ía        una panadería       una librería    una florerí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un grand almacén      una joyería     una tienda de rega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un supermercado   una carnicería    una pescadería   un estan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58920" y="2997360"/>
          <a:ext cx="6552720" cy="3127320"/>
        </p:xfrm>
        <a:graphic>
          <a:graphicData uri="http://schemas.openxmlformats.org/drawingml/2006/table">
            <a:tbl>
              <a:tblPr/>
              <a:tblGrid>
                <a:gridCol w="2184480"/>
                <a:gridCol w="2183760"/>
                <a:gridCol w="21844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frute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 – a grocer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flore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 – a flor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estanco-  tobaccon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fda1"/>
                    </a:solidFill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2484360" y="2349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s tiendas- the 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9FC-EE3C-444E-8DFE-781CE1C737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416720" cy="410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frut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manzanas, naranjas, u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C43-DF01-4375-B9D6-C92949229C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5333760" cy="316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carnic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hamburguesas, salchichas, bis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859-25EE-4F71-B9B9-02B228CCE5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4181400" cy="345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572000" cy="345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panad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7A5-C3F6-4718-9ED8-C936C4FF4F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4000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pescad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pescado, ma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CE5-27CE-48F6-9B64-C75430D60D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266160" cy="357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flor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7FE-1CB3-4F4F-A3E9-A1D561074E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76108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04640"/>
            <a:ext cx="1655640" cy="244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joyer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collares, pendientes, a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ABB-04E2-43B7-8F8B-E6CB754F71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096240" cy="360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est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cigarillos, toba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622-D6EF-44DB-ABA4-F54D551508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27416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4508640"/>
            <a:ext cx="8207280" cy="12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</a:rPr>
              <a:t>Tienda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super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200" spc="-1" strike="noStrike">
                <a:solidFill>
                  <a:srgbClr val="000000"/>
                </a:solidFill>
                <a:latin typeface="Arial"/>
                <a:ea typeface="Arial"/>
              </a:rPr>
              <a:t>Se vende: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  <a:ea typeface="Arial"/>
              </a:rPr>
              <a:t>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B11-8E44-40F7-883E-1E5F0F7862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3:06:59Z</dcterms:created>
  <dc:creator>fullerc</dc:creator>
  <dc:description/>
  <dc:language>en-US</dc:language>
  <cp:lastModifiedBy>Owner1</cp:lastModifiedBy>
  <dcterms:modified xsi:type="dcterms:W3CDTF">2008-12-16T13:29:59Z</dcterms:modified>
  <cp:revision>12</cp:revision>
  <dc:subject/>
  <dc:title>Slide 1</dc:title>
</cp:coreProperties>
</file>